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click.wav" ContentType="audio/x-wav"/>
  <Override PartName="/ppt/media/image7.png" ContentType="image/png"/>
  <Override PartName="/ppt/media/image5.jpeg" ContentType="image/jpeg"/>
  <Override PartName="/ppt/media/image4.jpeg" ContentType="image/jpeg"/>
  <Override PartName="/ppt/media/image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FD1-CE77-4A54-BD4C-9D2B175E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8D7F-D872-45F2-A169-FD308648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31B12-97D0-482A-968A-3CDCE86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1F64B-D35B-4684-8FDE-D9D47F26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6D26D-8514-4ABF-9A8E-A9BF322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7C88B-C80C-4E59-8CF6-0FC1AFDF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633F1-9BFF-40D9-A68D-B48AA39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14DEF-4367-415D-A9C6-2D4B052C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014ED9-0D91-4772-AAF3-8F5D3BAB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7766-0639-4D59-ABEB-5EB28B0B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12478-F967-48B6-875B-9CE8A6525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61B31-1403-4DEF-8F02-4E860D4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4C9-9BC3-42D3-9232-86A629BA0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7C9BC-C2D7-49C7-BE8D-6514F35A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7B6ED-B67A-426D-A159-0A20D66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1837-894C-4541-A6C9-E38031BC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B252-13D4-4DBD-BCAA-F1F5CE8B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062485-4C21-4B25-A2D3-1EFD4EB1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C33F0-2273-4D12-91FA-31581E19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088E9-FE7A-4F93-BAC9-63B2CA19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FFD73-EFFF-4A1D-B03F-A6640C9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C65DE-9411-47C2-A02F-F1EFBA1E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87312-9BBA-405A-BE5C-CE42E8D5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821-1892-45EB-88E0-B1ABE016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3D4C4-2D1D-46B2-BD41-3400EDEB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64CE0-1036-4D62-837F-E5C73288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0DAAC-C9B2-48CE-8B2D-B48A317B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7FEF8-16E5-4F8F-9AEE-63EEC10F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DBC61E-7D11-4491-A5E1-5952A2CE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93EC-F0D1-4FFC-8389-480EDB73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45654-8C37-439B-A1B9-6310E361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F851E-803D-4F4F-B85E-1403836C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0FD78-E76E-4852-8F92-2208A22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1E99-ADD5-42E6-97D6-3D84F8AA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95C1-B171-43BF-8676-B77B321E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43146-06C4-4C44-8BB4-137E492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4FD1B-FE57-4B4A-BA44-076B25BF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A8639-53FC-4595-8F1B-FE7F20464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A9250-E411-4B20-8BA1-46BD7960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2F34B-21DC-4248-A70C-236D2181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3D06B-EF06-4B0A-9F48-212ED743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9C82EA-3224-40DB-9283-DC7384E6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84418-8A96-49EE-AFC7-0E28F184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798C4-2AA5-4D96-8EFB-D7B108A6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8E50E-CE12-4A85-AB8C-D1E48147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E602-0721-4A28-B9BA-7C7F1775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A6A3E-4A33-4F5D-8D56-03A70B5A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B3995-67BB-4E23-BF36-6CEEAEC5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11498-B53D-47D5-9DDB-82388450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8BCBF-9056-4292-98CE-6AAB8D6B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3E18C6-9B88-4596-9750-4225AB19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3E4F-9D47-4E11-B229-43FB3E39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3D7D-C8CF-41B6-960D-893FBF6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0825-45A0-4ADB-9E53-CE35ED85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CBA4-C866-4B7B-87CB-2232E51D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5487-352E-404F-B1C6-6EEDD647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294E-0E6C-4BE2-972D-03B020DC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BF73-A4CC-4287-A266-F43029BE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0A01-DBC2-42E7-9DF9-C489F8BC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85C6-BE94-40AF-A764-EDCEF04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9696-BF67-4031-98F4-8FAF35F8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B725-4B26-4AC9-8FBD-B43FAB21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11650-8CFB-4DAA-A130-758DCEE8E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91C66-C5F9-4253-AA78-78929328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4F162-27BC-4A5F-8C36-15CFF62C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4EB1-92F8-49BA-B3FB-29810BAE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3A309-795D-473F-ABFA-43DD9158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9B1-8C97-43BC-96F4-11BE326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F018-C0B6-4437-B279-ACB55507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E4CF-A365-41CE-AC45-1341C50D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DEE4-19BF-43B9-ABDF-9C4FA955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9875E-C1AF-4B7B-B390-35B51AFE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D1B0-78E1-46CB-A7B7-21294B9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F70A6-BE03-4728-BC05-46607AFD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D90AC-DEAC-43A1-AB99-0E427CF8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03470-CEE5-44DE-915E-1A6A41E9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9108-CA3B-4CE2-8CA9-048CF903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896FD-B0F8-404A-AD27-EFBB300B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582-1211-461C-B0AA-56BFF392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C64A-29CC-444B-A3A8-7F2BE521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2536-BD81-4AB2-B2C9-ABF4D00B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15CA6-7E40-474B-B3EF-38BF1D84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82D1D-04AD-4BE7-AAB9-5911BD8D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28FE3-0107-429D-8C49-191B0FD7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D01A9-F6A0-4A88-8321-335E2CCE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148B-1BD9-441D-93ED-A3F61048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4DDD2-8DB6-4981-8C58-0CFE81D1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55CAA-7BAF-40CE-8B4F-01C0C974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ECCA-1AB0-4774-8565-9FA1459D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9E11-440C-4E32-9331-C4761EAA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93B43-BE91-4FBD-9FE0-C64804C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0242-95F7-442E-8C18-FC74CC85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2D10F-0B9B-4485-ACC6-570F605B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F0502-2488-487D-8D26-E28E1FF8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F3A61-DBD8-41C4-B378-FC9FEFF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B4DE-9238-483A-9E8A-380B1810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31B4-30A1-4FE1-BA10-9C2276FA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E3E10-134D-4820-9B68-552B10EF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9B4C-E9E5-4D37-85B4-7D08F353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A63F0-5BA1-4B05-A900-2690240A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3B5-A81F-48AD-A1E8-05B5C9E7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E993-DA02-441B-87BB-9806C40A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6DFCD-4804-42A7-8CB8-73A19E7A2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219C1-FE52-4621-A95E-06F5FFF3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AA432-BBE2-451F-A44A-976ACC9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39D1B-0763-4CC5-AF21-A280E16C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D117A-2142-48E1-8364-20F4FFED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445D7-EFC3-4E98-9E58-83E4252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1B29C-4CE8-4E6D-8BC1-9DF5FEE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2603-F1F8-4411-9A3B-CC9AA70A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CDD9A-3456-42BE-9EB2-A45C2B86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C0F-5635-47AE-9981-7FF417EE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96151-7334-4A60-8B24-EBAEF084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F54F6-53A8-4582-9BE3-C651ABC6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8F5E-3320-4E62-887A-EEE3726EB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357E2-58FD-4620-900F-2D3F9C06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8B2E-AE86-44CC-9A8C-A3B302F2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32BB-D457-4952-9F8F-74D13727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30250-D7F7-4E01-B8F7-C5DE1CF6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5AE89-F0CF-459C-8691-A6D1E116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EE638-E2CB-42A5-ADCA-51BBB472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8C241-7A2D-451B-A307-53F79F00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EC8-9DAA-4286-8DB1-606D3A21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ED0A9-DC00-4DC0-8388-CB3008B2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334E-5B10-4442-971B-006D2CB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787A-C7A7-4636-BC7E-A7504352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3F06-D86D-495F-AE36-B504B90D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0D25-BB4F-4EDB-921F-1BAC95CA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19D84-B384-4397-B851-31C1631B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1BE96-7B53-4BE2-94BC-ED608163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7E11-D794-4975-A5CE-89B71473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EB342-4356-449F-A43E-D2D07BC8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15FAC-BBA0-485A-9341-00C00FBA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BB3-D10B-442C-8DA1-196040A2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B9A9C-FF1C-4394-B6A2-FF013796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4DD5-ACC7-4231-B3B0-D8079A1F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E491-818E-41D1-8DA0-7B97D84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D4F8-2BEE-44BB-BAC8-F71040E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B477E-6A60-4B97-9130-D7476573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9DBF0-8C4E-439E-BCA3-880DCAE0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B4445-C32E-4C82-A9DC-BC8D8123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CB791-FCA3-431E-93AA-580DF47A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1011A-AF40-483F-8BE6-E3F496B4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46040-1763-4EFB-8786-81E15DB4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4505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4505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4505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4506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4506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4506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4506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17E2-E08B-475D-AA61-B3BA95655E0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B8E6-2255-44B7-8390-7D776ECA512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7E08-C265-4364-A093-E63CD7DE10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4743-2079-45FD-BAF6-F81A5DFE603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608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608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608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608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608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608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608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2BF2-C09C-4DB0-AA25-7DC2750733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EB49-EA58-4566-A8A6-CA90B4BB959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9F57-0DE7-454B-91D9-CA0E4293F48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8BCC-1C3B-4A02-A98D-D823C5D7D42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85C0-B8BA-4C2E-B4DA-68713A2B143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4345-0CD4-40E2-98E6-3329F83189E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7D61-6C20-46BD-B974-931BE7CDD2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9B39-60F1-4A28-9A3E-81CC7AD6ED6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&#22235;&#23395;&#29983;&#23383;.exe" TargetMode="Externa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6"/>
          <p:cNvSpPr/>
          <p:nvPr/>
        </p:nvSpPr>
        <p:spPr>
          <a:xfrm>
            <a:off x="2052720" y="4168800"/>
            <a:ext cx="738036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年中除了秋季还有哪几个季节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Rectangle 9"/>
          <p:cNvSpPr/>
          <p:nvPr/>
        </p:nvSpPr>
        <p:spPr>
          <a:xfrm>
            <a:off x="2857320" y="2008080"/>
            <a:ext cx="23752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现在是什么季节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Rectangle 10"/>
          <p:cNvSpPr/>
          <p:nvPr/>
        </p:nvSpPr>
        <p:spPr>
          <a:xfrm>
            <a:off x="3234960" y="3219480"/>
            <a:ext cx="3746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从哪些地方能看出是秋天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9" name="Text Box 11"/>
          <p:cNvSpPr/>
          <p:nvPr/>
        </p:nvSpPr>
        <p:spPr>
          <a:xfrm>
            <a:off x="82094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图片2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omb dir="horz"/>
    <p:sndAc>
      <p:stSnd>
        <p:snd r:embed="rId2" name="chimes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草芽为什么说他就是春天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还从哪些地方知道春天来了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4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荷叶圆圆</a:t>
            </a:r>
            <a:r>
              <a:rPr b="0" i="1" lang="en-US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,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对青蛙说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是夏天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4616640" y="6015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读一读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4649760" y="5877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思考：这一句写的是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850"/>
                            </p:stCondLst>
                            <p:childTnLst>
                              <p:par>
                                <p:cTn id="18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2-1"/>
          <p:cNvPicPr/>
          <p:nvPr/>
        </p:nvPicPr>
        <p:blipFill>
          <a:blip r:embed="rId1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grpSp>
        <p:nvGrpSpPr>
          <p:cNvPr id="555" name="Group 11"/>
          <p:cNvGrpSpPr/>
          <p:nvPr/>
        </p:nvGrpSpPr>
        <p:grpSpPr>
          <a:xfrm>
            <a:off x="3949560" y="692280"/>
            <a:ext cx="2590920" cy="1224000"/>
            <a:chOff x="3949560" y="692280"/>
            <a:chExt cx="2590920" cy="1224000"/>
          </a:xfrm>
        </p:grpSpPr>
        <p:sp>
          <p:nvSpPr>
            <p:cNvPr id="556" name="AutoShape 6"/>
            <p:cNvSpPr/>
            <p:nvPr/>
          </p:nvSpPr>
          <p:spPr>
            <a:xfrm>
              <a:off x="3949560" y="692280"/>
              <a:ext cx="2590920" cy="1224000"/>
            </a:xfrm>
            <a:prstGeom prst="cloudCallout">
              <a:avLst>
                <a:gd name="adj1" fmla="val -82412"/>
                <a:gd name="adj2" fmla="val 7464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Text Box 7"/>
            <p:cNvSpPr/>
            <p:nvPr/>
          </p:nvSpPr>
          <p:spPr>
            <a:xfrm>
              <a:off x="5247360" y="90792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是夏天。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8" name="Text Box 8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2811960" y="2781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荷叶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0" name="Picture 10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chimes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703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3"/>
                            </p:stCondLst>
                            <p:childTnLst>
                              <p:par>
                                <p:cTn id="20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703"/>
                            </p:stCondLst>
                            <p:childTnLst>
                              <p:par>
                                <p:cTn id="2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图片3"/>
          <p:cNvPicPr/>
          <p:nvPr/>
        </p:nvPicPr>
        <p:blipFill>
          <a:blip r:embed="rId1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图片4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5164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omb dir="vert"/>
    <p:sndAc>
      <p:stSnd>
        <p:snd r:embed="rId2" name="chimes.wav"/>
      </p:stSnd>
    </p:sndAc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荷叶为什么说他就是夏天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还从哪些地方知道夏天来了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谷穗弯弯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鞠着躬说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是秋天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4616640" y="6015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读一读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4649760" y="5877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思考：这一句写的是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100"/>
                            </p:stCondLst>
                            <p:childTnLst>
                              <p:par>
                                <p:cTn id="24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4-1"/>
          <p:cNvPicPr/>
          <p:nvPr/>
        </p:nvPicPr>
        <p:blipFill>
          <a:blip r:embed="rId1"/>
          <a:stretch/>
        </p:blipFill>
        <p:spPr>
          <a:xfrm>
            <a:off x="395280" y="295200"/>
            <a:ext cx="8748720" cy="6548400"/>
          </a:xfrm>
          <a:prstGeom prst="rect">
            <a:avLst/>
          </a:prstGeom>
          <a:ln w="0">
            <a:noFill/>
          </a:ln>
        </p:spPr>
      </p:pic>
      <p:grpSp>
        <p:nvGrpSpPr>
          <p:cNvPr id="572" name="Group 8"/>
          <p:cNvGrpSpPr/>
          <p:nvPr/>
        </p:nvGrpSpPr>
        <p:grpSpPr>
          <a:xfrm>
            <a:off x="3851280" y="620640"/>
            <a:ext cx="2590920" cy="1224000"/>
            <a:chOff x="3851280" y="620640"/>
            <a:chExt cx="2590920" cy="1224000"/>
          </a:xfrm>
        </p:grpSpPr>
        <p:sp>
          <p:nvSpPr>
            <p:cNvPr id="573" name="AutoShape 4"/>
            <p:cNvSpPr/>
            <p:nvPr/>
          </p:nvSpPr>
          <p:spPr>
            <a:xfrm>
              <a:off x="3851280" y="620640"/>
              <a:ext cx="2590920" cy="1224000"/>
            </a:xfrm>
            <a:prstGeom prst="cloudCallout">
              <a:avLst>
                <a:gd name="adj1" fmla="val -77268"/>
                <a:gd name="adj2" fmla="val 83074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Text Box 5"/>
            <p:cNvSpPr/>
            <p:nvPr/>
          </p:nvSpPr>
          <p:spPr>
            <a:xfrm>
              <a:off x="5149080" y="8366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是秋天。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5" name="Text Box 6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3461040" y="2421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谷穗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图片5"/>
          <p:cNvPicPr/>
          <p:nvPr/>
        </p:nvPicPr>
        <p:blipFill>
          <a:blip r:embed="rId1"/>
          <a:stretch/>
        </p:blipFill>
        <p:spPr>
          <a:xfrm>
            <a:off x="324000" y="260280"/>
            <a:ext cx="8820000" cy="661536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ircle/>
    <p:sndAc>
      <p:stSnd>
        <p:snd r:embed="rId2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26920" y="2204640"/>
            <a:ext cx="4321080" cy="1973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四季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253512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Text Box 22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checker dir="horz"/>
    <p:sndAc>
      <p:stSnd>
        <p:snd r:embed="rId1" name="chimes.wav"/>
      </p:stSnd>
    </p:sndAc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图片6"/>
          <p:cNvPicPr/>
          <p:nvPr/>
        </p:nvPicPr>
        <p:blipFill>
          <a:blip r:embed="rId1"/>
          <a:stretch/>
        </p:blipFill>
        <p:spPr>
          <a:xfrm>
            <a:off x="179280" y="568440"/>
            <a:ext cx="8964720" cy="628956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omb dir="horz"/>
    <p:sndAc>
      <p:stSnd>
        <p:snd r:embed="rId2" name="chimes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谷穗为什么说他就是秋天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还从哪些地方知道秋天来了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2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雪人大肚子一挺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顽皮地说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就是冬天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4616640" y="601560"/>
            <a:ext cx="866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读一读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4649760" y="5877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思考：这一句写的是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3-1"/>
          <p:cNvPicPr/>
          <p:nvPr/>
        </p:nvPicPr>
        <p:blipFill>
          <a:blip r:embed="rId1"/>
          <a:stretch/>
        </p:blipFill>
        <p:spPr>
          <a:xfrm>
            <a:off x="468360" y="351000"/>
            <a:ext cx="8675640" cy="650700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9" name="Group 8"/>
          <p:cNvGrpSpPr/>
          <p:nvPr/>
        </p:nvGrpSpPr>
        <p:grpSpPr>
          <a:xfrm>
            <a:off x="3851280" y="620640"/>
            <a:ext cx="3025800" cy="1224000"/>
            <a:chOff x="3851280" y="620640"/>
            <a:chExt cx="3025800" cy="1224000"/>
          </a:xfrm>
        </p:grpSpPr>
        <p:sp>
          <p:nvSpPr>
            <p:cNvPr id="590" name="AutoShape 5"/>
            <p:cNvSpPr/>
            <p:nvPr/>
          </p:nvSpPr>
          <p:spPr>
            <a:xfrm>
              <a:off x="3851280" y="620640"/>
              <a:ext cx="3025800" cy="1224000"/>
            </a:xfrm>
            <a:prstGeom prst="cloudCallout">
              <a:avLst>
                <a:gd name="adj1" fmla="val -33055"/>
                <a:gd name="adj2" fmla="val 11887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1" name="Text Box 6"/>
            <p:cNvSpPr/>
            <p:nvPr/>
          </p:nvSpPr>
          <p:spPr>
            <a:xfrm>
              <a:off x="5378400" y="83664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就是冬天。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2" name="Text Box 7"/>
          <p:cNvSpPr/>
          <p:nvPr/>
        </p:nvSpPr>
        <p:spPr>
          <a:xfrm>
            <a:off x="3893040" y="4221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雪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blinds dir="horz"/>
    <p:sndAc>
      <p:stSnd>
        <p:snd r:embed="rId2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图片7"/>
          <p:cNvPicPr/>
          <p:nvPr/>
        </p:nvPicPr>
        <p:blipFill>
          <a:blip r:embed="rId1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图片8"/>
          <p:cNvPicPr/>
          <p:nvPr/>
        </p:nvPicPr>
        <p:blipFill>
          <a:blip r:embed="rId1"/>
          <a:stretch/>
        </p:blipFill>
        <p:spPr>
          <a:xfrm>
            <a:off x="395280" y="365040"/>
            <a:ext cx="8748720" cy="64929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3002760" y="2492280"/>
            <a:ext cx="4295520" cy="195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雪人为什么说他就是冬天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还从哪些地方知道冬天来了呢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/>
          </p:cNvPr>
          <p:cNvSpPr/>
          <p:nvPr/>
        </p:nvSpPr>
        <p:spPr>
          <a:xfrm>
            <a:off x="4067280" y="5013360"/>
            <a:ext cx="1295280" cy="647640"/>
          </a:xfrm>
          <a:custGeom>
            <a:avLst/>
            <a:gdLst>
              <a:gd name="textAreaLeft" fmla="*/ 41760 w 1295280"/>
              <a:gd name="textAreaRight" fmla="*/ 1253520 w 129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43188" h="21600">
                <a:moveTo>
                  <a:pt x="0" y="0"/>
                </a:moveTo>
                <a:lnTo>
                  <a:pt x="43188" y="0"/>
                </a:lnTo>
                <a:lnTo>
                  <a:pt x="43188" y="21600"/>
                </a:lnTo>
                <a:lnTo>
                  <a:pt x="0" y="21600"/>
                </a:lnTo>
                <a:close/>
              </a:path>
              <a:path fill="lightenLess" w="43188" h="21600">
                <a:moveTo>
                  <a:pt x="0" y="0"/>
                </a:moveTo>
                <a:lnTo>
                  <a:pt x="43188" y="0"/>
                </a:lnTo>
                <a:lnTo>
                  <a:pt x="41788" y="1400"/>
                </a:lnTo>
                <a:lnTo>
                  <a:pt x="1400" y="1400"/>
                </a:lnTo>
                <a:close/>
              </a:path>
              <a:path fill="darken" w="43188" h="21600">
                <a:moveTo>
                  <a:pt x="43188" y="0"/>
                </a:moveTo>
                <a:lnTo>
                  <a:pt x="43188" y="21600"/>
                </a:lnTo>
                <a:lnTo>
                  <a:pt x="41788" y="20200"/>
                </a:lnTo>
                <a:lnTo>
                  <a:pt x="41788" y="1400"/>
                </a:lnTo>
                <a:close/>
              </a:path>
              <a:path fill="darkenLess" w="43188" h="21600">
                <a:moveTo>
                  <a:pt x="43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8" y="20200"/>
                </a:lnTo>
                <a:close/>
              </a:path>
              <a:path fill="lighten" w="43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8" h="21600">
                <a:moveTo>
                  <a:pt x="14588" y="7301"/>
                </a:moveTo>
                <a:lnTo>
                  <a:pt x="15501" y="7301"/>
                </a:lnTo>
                <a:lnTo>
                  <a:pt x="15884" y="7667"/>
                </a:lnTo>
                <a:lnTo>
                  <a:pt x="25093" y="7667"/>
                </a:lnTo>
                <a:lnTo>
                  <a:pt x="25650" y="8224"/>
                </a:lnTo>
                <a:lnTo>
                  <a:pt x="25650" y="8772"/>
                </a:lnTo>
                <a:lnTo>
                  <a:pt x="27495" y="8772"/>
                </a:lnTo>
                <a:lnTo>
                  <a:pt x="27861" y="8224"/>
                </a:lnTo>
                <a:lnTo>
                  <a:pt x="28600" y="8224"/>
                </a:lnTo>
                <a:lnTo>
                  <a:pt x="28600" y="13376"/>
                </a:lnTo>
                <a:lnTo>
                  <a:pt x="27861" y="13376"/>
                </a:lnTo>
                <a:lnTo>
                  <a:pt x="27495" y="12828"/>
                </a:lnTo>
                <a:lnTo>
                  <a:pt x="25650" y="12828"/>
                </a:lnTo>
                <a:lnTo>
                  <a:pt x="25650" y="14107"/>
                </a:lnTo>
                <a:lnTo>
                  <a:pt x="16067" y="14107"/>
                </a:lnTo>
                <a:lnTo>
                  <a:pt x="16067" y="9877"/>
                </a:lnTo>
                <a:lnTo>
                  <a:pt x="15884" y="9877"/>
                </a:lnTo>
                <a:lnTo>
                  <a:pt x="15501" y="10243"/>
                </a:lnTo>
                <a:lnTo>
                  <a:pt x="14588" y="10243"/>
                </a:lnTo>
                <a:close/>
              </a:path>
            </a:pathLst>
          </a:custGeom>
          <a:solidFill>
            <a:srgbClr val="ccccff">
              <a:alpha val="46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4181400" y="602136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动画演示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273560" y="62064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写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2" name="Group 34"/>
          <p:cNvGrpSpPr/>
          <p:nvPr/>
        </p:nvGrpSpPr>
        <p:grpSpPr>
          <a:xfrm>
            <a:off x="2411280" y="2924280"/>
            <a:ext cx="4897440" cy="1260360"/>
            <a:chOff x="2411280" y="2924280"/>
            <a:chExt cx="4897440" cy="1260360"/>
          </a:xfrm>
        </p:grpSpPr>
        <p:grpSp>
          <p:nvGrpSpPr>
            <p:cNvPr id="603" name="Group 5"/>
            <p:cNvGrpSpPr/>
            <p:nvPr/>
          </p:nvGrpSpPr>
          <p:grpSpPr>
            <a:xfrm>
              <a:off x="3637080" y="2960640"/>
              <a:ext cx="1224000" cy="1224000"/>
              <a:chOff x="3637080" y="2960640"/>
              <a:chExt cx="1224000" cy="1224000"/>
            </a:xfrm>
          </p:grpSpPr>
          <p:sp>
            <p:nvSpPr>
              <p:cNvPr id="604" name="Rectangle 6"/>
              <p:cNvSpPr/>
              <p:nvPr/>
            </p:nvSpPr>
            <p:spPr>
              <a:xfrm>
                <a:off x="36370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5" name="Line 7"/>
              <p:cNvSpPr/>
              <p:nvPr/>
            </p:nvSpPr>
            <p:spPr>
              <a:xfrm flipH="1">
                <a:off x="36370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6" name="Line 8"/>
              <p:cNvSpPr/>
              <p:nvPr/>
            </p:nvSpPr>
            <p:spPr>
              <a:xfrm>
                <a:off x="42494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07" name="Group 9"/>
            <p:cNvGrpSpPr/>
            <p:nvPr/>
          </p:nvGrpSpPr>
          <p:grpSpPr>
            <a:xfrm>
              <a:off x="4860720" y="2960640"/>
              <a:ext cx="1224000" cy="1224000"/>
              <a:chOff x="4860720" y="2960640"/>
              <a:chExt cx="1224000" cy="1224000"/>
            </a:xfrm>
          </p:grpSpPr>
          <p:sp>
            <p:nvSpPr>
              <p:cNvPr id="608" name="Rectangle 10"/>
              <p:cNvSpPr/>
              <p:nvPr/>
            </p:nvSpPr>
            <p:spPr>
              <a:xfrm>
                <a:off x="4861080" y="2960640"/>
                <a:ext cx="122364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9" name="Line 11"/>
              <p:cNvSpPr/>
              <p:nvPr/>
            </p:nvSpPr>
            <p:spPr>
              <a:xfrm flipH="1">
                <a:off x="4860720" y="3572640"/>
                <a:ext cx="122364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0" name="Line 12"/>
              <p:cNvSpPr/>
              <p:nvPr/>
            </p:nvSpPr>
            <p:spPr>
              <a:xfrm>
                <a:off x="5473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11" name="Group 13"/>
            <p:cNvGrpSpPr/>
            <p:nvPr/>
          </p:nvGrpSpPr>
          <p:grpSpPr>
            <a:xfrm>
              <a:off x="6084720" y="2960640"/>
              <a:ext cx="1224000" cy="1224000"/>
              <a:chOff x="6084720" y="2960640"/>
              <a:chExt cx="1224000" cy="1224000"/>
            </a:xfrm>
          </p:grpSpPr>
          <p:sp>
            <p:nvSpPr>
              <p:cNvPr id="612" name="Rectangle 14"/>
              <p:cNvSpPr/>
              <p:nvPr/>
            </p:nvSpPr>
            <p:spPr>
              <a:xfrm>
                <a:off x="608472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3" name="Line 15"/>
              <p:cNvSpPr/>
              <p:nvPr/>
            </p:nvSpPr>
            <p:spPr>
              <a:xfrm flipH="1">
                <a:off x="608472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4" name="Line 16"/>
              <p:cNvSpPr/>
              <p:nvPr/>
            </p:nvSpPr>
            <p:spPr>
              <a:xfrm>
                <a:off x="669708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615" name="Group 25"/>
            <p:cNvGrpSpPr/>
            <p:nvPr/>
          </p:nvGrpSpPr>
          <p:grpSpPr>
            <a:xfrm>
              <a:off x="2411280" y="2960640"/>
              <a:ext cx="1224000" cy="1224000"/>
              <a:chOff x="2411280" y="2960640"/>
              <a:chExt cx="1224000" cy="1224000"/>
            </a:xfrm>
          </p:grpSpPr>
          <p:sp>
            <p:nvSpPr>
              <p:cNvPr id="616" name="Rectangle 26"/>
              <p:cNvSpPr/>
              <p:nvPr/>
            </p:nvSpPr>
            <p:spPr>
              <a:xfrm>
                <a:off x="2411280" y="2960640"/>
                <a:ext cx="1224000" cy="12240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7" name="Line 27"/>
              <p:cNvSpPr/>
              <p:nvPr/>
            </p:nvSpPr>
            <p:spPr>
              <a:xfrm flipH="1">
                <a:off x="2411280" y="3572640"/>
                <a:ext cx="122400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8" name="Line 28"/>
              <p:cNvSpPr/>
              <p:nvPr/>
            </p:nvSpPr>
            <p:spPr>
              <a:xfrm>
                <a:off x="3023640" y="2990880"/>
                <a:ext cx="0" cy="11934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619" name="Text Box 29"/>
            <p:cNvSpPr/>
            <p:nvPr/>
          </p:nvSpPr>
          <p:spPr>
            <a:xfrm>
              <a:off x="2484360" y="2924280"/>
              <a:ext cx="482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7200" spc="-1" strike="noStrike" u="sng">
                  <a:solidFill>
                    <a:srgbClr val="ff3300"/>
                  </a:solidFill>
                  <a:uFillTx/>
                  <a:latin typeface="Arial"/>
                  <a:ea typeface="楷体_GB2312"/>
                </a:rPr>
                <a:t>七儿九天</a:t>
              </a:r>
              <a:endParaRPr b="0" i="1" lang="en-US" sz="7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20" name="Text Box 33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4"/>
          <p:cNvSpPr/>
          <p:nvPr/>
        </p:nvSpPr>
        <p:spPr>
          <a:xfrm>
            <a:off x="3323160" y="3129120"/>
            <a:ext cx="37468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你最喜欢哪个季节？为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把你最喜欢的季节画一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4119120" y="6429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知识拓展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四季组合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冰雪24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f544"/>
          <p:cNvPicPr/>
          <p:nvPr/>
        </p:nvPicPr>
        <p:blipFill>
          <a:blip r:embed="rId3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5" descr="18"/>
          <p:cNvPicPr/>
          <p:nvPr/>
        </p:nvPicPr>
        <p:blipFill>
          <a:blip r:embed="rId4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6" descr="f695"/>
          <p:cNvPicPr/>
          <p:nvPr/>
        </p:nvPicPr>
        <p:blipFill>
          <a:blip r:embed="rId5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pic>
        <p:nvPicPr>
          <p:cNvPr id="518" name="彩云追月.mp3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1"/>
          <p:cNvSpPr/>
          <p:nvPr/>
        </p:nvSpPr>
        <p:spPr>
          <a:xfrm>
            <a:off x="82094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272484" fill="hold"/>
                                        <p:tgtEl>
                                          <p:spTgt spid="5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3" presetSubtype="10">
                                  <p:stCondLst>
                                    <p:cond delay="32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10">
                                  <p:stCondLst>
                                    <p:cond delay="2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9">
                                  <p:stCondLst>
                                    <p:cond delay="16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4" presetSubtype="32">
                                  <p:stCondLst>
                                    <p:cond delay="600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6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8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1042920" y="1706400"/>
            <a:ext cx="345780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草芽尖尖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他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对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小鸟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说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我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是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春天。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荷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叶圆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圆</a:t>
            </a:r>
            <a:r>
              <a:rPr b="0" i="1" lang="en-US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,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他对青蛙说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我是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夏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天。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5866200" y="1706400"/>
            <a:ext cx="248472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谷穗弯弯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鞠着躬说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是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秋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天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雪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人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大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肚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子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一挺，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顽皮地说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是</a:t>
            </a: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冬</a:t>
            </a: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天。”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4008240" y="5904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楷体_GB2312"/>
                <a:ea typeface="楷体_GB2312"/>
              </a:rPr>
              <a:t>四  季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8"/>
          <p:cNvSpPr/>
          <p:nvPr/>
        </p:nvSpPr>
        <p:spPr>
          <a:xfrm>
            <a:off x="1261080" y="2644920"/>
            <a:ext cx="7861680" cy="287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duì   shu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ō  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shì      yè    yu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á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   xi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宋体"/>
                <a:ea typeface="宋体"/>
              </a:rPr>
              <a:t>à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对   说   是   叶   圆   夏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qi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ū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    xu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ě   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 dù      jiù   d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ō</a:t>
            </a:r>
            <a:r>
              <a:rPr b="0" i="1" lang="en-US" sz="32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ng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秋   雪   肚   就   冬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4191120" y="927000"/>
            <a:ext cx="1400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宋体"/>
              </a:rPr>
              <a:t>会认的字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5"/>
          <p:cNvSpPr/>
          <p:nvPr/>
        </p:nvSpPr>
        <p:spPr>
          <a:xfrm>
            <a:off x="1835280" y="2852640"/>
            <a:ext cx="69134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不对        就是         荷叶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835280" y="3892680"/>
            <a:ext cx="68245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圆圆       夏天          秋风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1870200" y="4971960"/>
            <a:ext cx="65880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6561f"/>
                </a:solidFill>
                <a:uFillTx/>
                <a:latin typeface="Times New Roman"/>
                <a:ea typeface="楷体_GB2312"/>
              </a:rPr>
              <a:t>雪人        肚子         冬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4269240" y="588960"/>
            <a:ext cx="7401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读一读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400"/>
                            </p:stCondLst>
                            <p:childTnLst>
                              <p:par>
                                <p:cTn id="91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600"/>
                            </p:stCondLst>
                            <p:childTnLst>
                              <p:par>
                                <p:cTn id="97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4"/>
          <p:cNvSpPr/>
          <p:nvPr/>
        </p:nvSpPr>
        <p:spPr>
          <a:xfrm>
            <a:off x="3132000" y="2205000"/>
            <a:ext cx="457200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草芽尖尖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他对小鸟说：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“</a:t>
            </a:r>
            <a:r>
              <a:rPr b="0" i="1" lang="zh-CN" sz="40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我是春天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436640" y="784080"/>
            <a:ext cx="68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读一读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6"/>
          <p:cNvSpPr/>
          <p:nvPr/>
        </p:nvSpPr>
        <p:spPr>
          <a:xfrm>
            <a:off x="4649760" y="5877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6561f"/>
                </a:solidFill>
                <a:uFillTx/>
                <a:latin typeface="Arial"/>
                <a:ea typeface="楷体_GB2312"/>
              </a:rPr>
              <a:t>思考：这一句写的是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1-1"/>
          <p:cNvPicPr/>
          <p:nvPr/>
        </p:nvPicPr>
        <p:blipFill>
          <a:blip r:embed="rId1"/>
          <a:stretch/>
        </p:blipFill>
        <p:spPr>
          <a:xfrm>
            <a:off x="324000" y="243000"/>
            <a:ext cx="8820000" cy="6615000"/>
          </a:xfrm>
          <a:prstGeom prst="rect">
            <a:avLst/>
          </a:prstGeom>
          <a:ln w="0">
            <a:noFill/>
          </a:ln>
        </p:spPr>
      </p:pic>
      <p:grpSp>
        <p:nvGrpSpPr>
          <p:cNvPr id="538" name="Group 11"/>
          <p:cNvGrpSpPr/>
          <p:nvPr/>
        </p:nvGrpSpPr>
        <p:grpSpPr>
          <a:xfrm>
            <a:off x="1042920" y="2492280"/>
            <a:ext cx="2590920" cy="1224000"/>
            <a:chOff x="1042920" y="2492280"/>
            <a:chExt cx="2590920" cy="1224000"/>
          </a:xfrm>
        </p:grpSpPr>
        <p:sp>
          <p:nvSpPr>
            <p:cNvPr id="539" name="AutoShape 6"/>
            <p:cNvSpPr/>
            <p:nvPr/>
          </p:nvSpPr>
          <p:spPr>
            <a:xfrm>
              <a:off x="1042920" y="2492280"/>
              <a:ext cx="2590920" cy="1224000"/>
            </a:xfrm>
            <a:prstGeom prst="cloudCallout">
              <a:avLst>
                <a:gd name="adj1" fmla="val 6004"/>
                <a:gd name="adj2" fmla="val 11134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Text Box 7"/>
            <p:cNvSpPr/>
            <p:nvPr/>
          </p:nvSpPr>
          <p:spPr>
            <a:xfrm>
              <a:off x="2340720" y="2708280"/>
              <a:ext cx="403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 u="sng">
                  <a:solidFill>
                    <a:srgbClr val="06561f"/>
                  </a:solidFill>
                  <a:uFillTx/>
                  <a:latin typeface="Arial"/>
                  <a:ea typeface="楷体_GB2312"/>
                </a:rPr>
                <a:t>我是春天。</a:t>
              </a:r>
              <a:endParaRPr b="0" i="1" lang="en-US" sz="3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1" name="Text Box 8"/>
          <p:cNvSpPr/>
          <p:nvPr/>
        </p:nvSpPr>
        <p:spPr>
          <a:xfrm>
            <a:off x="3027600" y="5013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3300"/>
                </a:solidFill>
                <a:uFillTx/>
                <a:latin typeface="Arial"/>
                <a:ea typeface="宋体"/>
              </a:rPr>
              <a:t>草芽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9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3" name="鸟叫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3" name="chimes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799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图片1"/>
          <p:cNvPicPr/>
          <p:nvPr/>
        </p:nvPicPr>
        <p:blipFill>
          <a:blip r:embed="rId1"/>
          <a:stretch/>
        </p:blipFill>
        <p:spPr>
          <a:xfrm>
            <a:off x="395280" y="297000"/>
            <a:ext cx="8748720" cy="65610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4"/>
          <p:cNvSpPr/>
          <p:nvPr/>
        </p:nvSpPr>
        <p:spPr>
          <a:xfrm>
            <a:off x="826524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ffff"/>
                </a:solidFill>
                <a:uFillTx/>
                <a:latin typeface="Arial"/>
                <a:ea typeface="楷体_GB2312"/>
              </a:rPr>
              <a:t>四季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万润仪器贸易公司</cp:lastModifiedBy>
  <dcterms:modified xsi:type="dcterms:W3CDTF">2020-08-24T01:53:44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